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25AA-D866-4804-BF31-29AC0F56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C704-6BBD-4D72-9835-4A7F90C3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7E2-FC50-4445-80A9-955E5FA9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7A4-58AF-4323-8A67-FFE3DDC9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21A4-A7CA-4D91-BBDC-8922A845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CC30-5987-4C13-9F2E-7F522DE9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7B1-623F-423B-8271-F05EFEE9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EBDF-4DE6-4C7B-84EE-703939CE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387-9FED-4F03-BB4A-AB250342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831B-844E-427A-953E-75D5B87C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720B-221B-41F2-A101-6F683104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D1E7-73D8-420B-BFB6-A011D76D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3CFF-C34F-4943-9312-38E791EAB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iphermysteries.com/wp-content/uploads/2010/07/f66v-scratch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mailto:nickpelling@nickpelling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8064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ick Pelling – Independent Histor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ickpelling@nickpelling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ciphermysterie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404640"/>
            <a:ext cx="82296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ll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adiocarbon dated to (1404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a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ovenance dated to …16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Between Vellum &amp; Pra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ilar numbers (#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71480"/>
            <a:ext cx="843588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Žiče Monastery MS 972 [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omas Sauvag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80643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ilar numbers (#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464: Flores Musicae Cod.poet.et.phil.qt.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omas Sauvag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771640" y="3152880"/>
            <a:ext cx="32576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other thing to not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chicken scratch” marginalia are 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66v (in Q8) and f86v3 (in Q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f66v scratch 300x180 Voynich chicken scratches..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3357720"/>
            <a:ext cx="2879640" cy="1726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500720" y="3068640"/>
            <a:ext cx="36385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oynich Quir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ration uses C15 number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d by John Matthews Manly in 19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re number gaps need explan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rarely used quire number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m9, 29, 39, 49, 5t9, 6t9, 7m9, 8u9, 9n9, 10m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breviated longhand Roman ordina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oynich Folio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iation uses C16 number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ably added not long before Pra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io number gaps need explan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 leas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aint was added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 microscope, f42r’s “42” is overpai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Rene Zandbergen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re order ≠ folio ord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15 quire numbers vs C16 folio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9 (‘Quire 9’) was restitched between quiration and foliation (John Gr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e for nine-rosette Q14 (Glen Clast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2’s quire ‘-9’ terminates in Q6 (Pel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5734080"/>
            <a:ext cx="82296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ration and foliation were independ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re order ≠ original quire ord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785080" cy="30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8 &amp; Q13 – quire number on the wrong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13 &amp; Q20 – both originally in two half-qu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15 &amp; Q19 – quires are in reverse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5732640"/>
            <a:ext cx="87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re numberer was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original auth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y quire number puzzl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le quire hands (Pelling 20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le quire hand numbering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re sequence gaps (Q16 &amp; Q18 miss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re order different from original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re order different from folio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cken scratch marginalia sepa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…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hat happened to the quire nu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ly accepted ‘explanatio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Q16 &amp; Q18 were probably single bifolios removed by Baresch to send to Kirche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3429000"/>
            <a:ext cx="82296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fails to explain the various quire hands, nor why quire hand #1 didn’t number all the quires in one go. Unlike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7340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ger problem: only explanation on off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ectual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umes actions done in good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umes rationality under trying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ily constrain hypotheses to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w accounts normally fi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 poor fit for cryptographic puzzl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But an excellent fit for pure codicology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Types of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ysical – radiocarbon date, spectros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– Art History, technique, clad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ual – close reading, referenc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alytical – codicology, pala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cial – provenance, mentions, deb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5516640"/>
            <a:ext cx="77043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dicology =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rchaeology of the pa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ectual history of the 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788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core presumption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quire numbers are not dece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quire numberer(s) followed ‘the rules’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3933720"/>
            <a:ext cx="822960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mber the quires in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 need to number the endmost qu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ut number at bottom right of back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mber each separate book individ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… a tentative re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3213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s is what I believe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ire state prior to quir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oynich Manuscript arrived on Quire Hand #1’s desk as three separate boo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A: Q1-Q7,Q17,Q8(Q14),Q9-Q12,Q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B: Q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C: Q19,Q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1: origin of Q19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19 was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ire of Book C, and was numbered ‘19’ (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im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) by someone el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15 was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last) quire of Book C, so needed no quir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2: origin of Q13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wner rationalized Book A and Book B into a single Book AB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1: Q1-Q7,Q17,Q8(Q14),Q9-Q13, Q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3: Q14 falls o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folded page of Q14 was f86v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14’s binding damaged, so had fallen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14 was reinserted immediately after Q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2: Q1-Q7,Q17,Q8,Q14,Q9-Q13,Q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ep #4: ‘chicken scratches’ red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66v is the last page of Q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86v3 is still the first page of Q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ken scratch marginalia added to f66v and f86v3 - facing pag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3 = AB2 (but with chicken scratch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5: origin of Q14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e-rosette Q14 needed reb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e-rosette page was removed from after Q8 &amp; reinserted after Q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4: Q1-Q7,Q17,Q8-Q14,Q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6: origin of Q15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wner wanted to rationalize Book AB4 and Book C into a singl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ed Book C between Q14 and Q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d order of Q15 and Q19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robably added Q20’s quire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1 = Q1-Q7,Q17,Q8-Q15,Q19,Q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7: origin of Q17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17 was originally ‘7m9’, but contained uncomfortably wide folios. Sat awkwar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wner concluded that it should sit between the wide Q15 and Q19 qu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ordered &amp; changed ‘7m9’ to ’17m9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2 = Q1-Q15,Q17,Q19,Q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dicology: separate the lay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material (vell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k + drawings + paint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ginalia + annotation + colo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re / book / folio numb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rrections + emendations + lacu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ct transfers + stains +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p #8: the missing bifol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where did Q8’s missing bifolios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the foliator saw the stubs of Q14’s ripped fol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ill in 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the centre of Q8, and counted the stubs as missing bifol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.e. the nine-rosette page was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iteral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two places at once, so was double-count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9: origin of Q6/Q7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6 / Q7 ended up with no quir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owner concluded that these should be quirated in the original numbering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 quire order: Q1-Q15,Q17,Q19,Q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(#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ral people worked on the Voyn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least two during C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sought to give it form and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looked for clues in the margin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…even if they didn’t always get it righ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ordered &amp; restitch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ympathe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were bibliophiles…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ibraria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(#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15 hybrid numbering scheme is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oot in medieval tra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oot in contemporary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n between the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humanists, 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Speculative Hypothe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nastic Library Hypothes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oynich Manuscript was given to Rudolf II by a representative or inheritor of an abbey, monastery or friar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“The Franciscan Library Hypothes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oynich Manuscript was given to Rudolf II by a representative or inheritor of a Franciscan abbey, monastery or friar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oger Bacon was a Franciscan mon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: enciphered quire numb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47800" y="1628640"/>
            <a:ext cx="2409840" cy="3168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8876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t’s A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ick Pelling –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ickpelling@nickpelling.co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ensic analysis: “CSI: Voynich”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rd’s Exchange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very contact leaves a tra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nstruct the layer deposition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ke a crime scene! 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ut with ink, not blood!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nts leave mark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lets us infer intermediat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, let’s take a look 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3141720"/>
            <a:ext cx="77756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Voynich Manuscript’s</a:t>
            </a:r>
            <a:br>
              <a:rPr sz="4000"/>
            </a:b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quire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54040" y="115920"/>
            <a:ext cx="62359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ilar numbers (#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2803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d Sang 839    [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omas Sauvag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2371680"/>
            <a:ext cx="8229600" cy="1562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9640" y="4941720"/>
            <a:ext cx="8280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lso has book numbers in top margin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9, 29, 39, 49, 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ilar numbers (#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 Sang 688     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ilipp Len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7067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ilar numbers (#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kau Abbey MS 384 [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omas Sauvag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81378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9:34:04Z</dcterms:created>
  <dc:creator>nick</dc:creator>
  <dc:description/>
  <dc:language>en-US</dc:language>
  <cp:lastModifiedBy>nick</cp:lastModifiedBy>
  <dcterms:modified xsi:type="dcterms:W3CDTF">2012-05-03T20:54:05Z</dcterms:modified>
  <cp:revision>34</cp:revision>
  <dc:subject/>
  <dc:title>Between Vellum and Prague</dc:title>
</cp:coreProperties>
</file>