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3E4-1A39-40AC-A778-9EE472A9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29E-BDA1-442D-8A7C-B886BB2F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5A4-F9D6-4E94-A63F-9BD2AF1C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348-93F4-4249-93C5-FE550006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637-9434-48C1-B015-F84EFA6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848-63B5-4348-9CE8-7F51F2C2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34B9-364A-42C4-A489-6767980B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8837-E31D-4995-9408-ECF2B5BA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D7E-5A86-4A14-AE12-8EF1369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4D5-45D6-4831-879E-A2EEE6E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8FF-59FF-4D65-895C-2E9BEB09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61E-D78E-47B7-B76B-9FA2712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DD9-AB15-4078-AB9E-DB74B275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nickpelling@nickpelling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82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ween Vellum and Pr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220640"/>
            <a:ext cx="8064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k Pelling – Independent Histo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kpelling@nickpell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ciphermysteri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es actions done in good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umes rationality under try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ily constrain hypotheses to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ccounts can we devise that still 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 poor fit for cryptographic puzzl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But an excellent fit for pure codicolog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lectual history of the qu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re numbers are not enciph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re numbers are not dece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quire numberers followed “the ru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re “the rules” of quire numbe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s of quire numb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 the quires i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 need to number the endmost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ut number at bottom right of back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mber each separate book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: Cod. Sang. 8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 Gallen Abbey Library MS 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olas Oresme’s commentary in 5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phon dated 14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 176r has similar 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m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in top mar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noticed by Thomas Sauva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m9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added subsequent to colo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book is numbered ‘19’ (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prim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re state prior to quira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oynich Manuscript arrived on Quire Hand #1’s desk as three separate boo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A: Q1-Q7,Q17,Q8(Q14),Q9-Q12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B: Q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C: Q19,Q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1: origin of Q19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9 was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re of Book C, so was numbered ‘19’ (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m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5 was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last) quire of Book C, so needed no quir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2: origin of Q13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wner rationalized Book A and Book B into a single Book AB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1: Q1-Q7,Q17,Q8(Q14),Q9-Q13, 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3: Q14 falls ou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folded page of Q14 was f86v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4’s binding damaged, so had fallen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4 was reinserted immediately after Q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2: Q1-Q7,Q17,Q8,Q14,Q9-Q13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ep #4: ‘chicken scratches’ red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66v is the last page of Q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86v3 is still the first page of Q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scratch marginalia added to f66v and f86v3 - facing p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3 = AB2 (but with chicken scratch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5: origin of Q14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-rosette Q14 needed re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-rosette page was removed from after Q8 &amp; reinserted after Q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4: Q1-Q7,Q17,Q8-Q14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take s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I’m on the side of the evid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ocarbon dating th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erminus a qu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~14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enance dating 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r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erminus ad qu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~16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ed between Vellum &amp; Prag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6: origin of Q1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wanted to rationalize Book AB4 and Book C into a singl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ed Book C between Q14 and 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d order of Q15 and Q19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obably added Q20’s quire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1 = Q1-Q7,Q17,Q8-Q15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7: origin of Q17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17 was originally ‘7m9’, but contained uncomfortably wide folios. Sat awkwar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wner concluded that it should sit between the wide Q15 and Q19 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dered &amp; changed ‘7m9’ to ’17m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2 = Q1-Q15,Q17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p #8: the missing bifol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where did Q8’s missing bifolios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the foliator saw the stubs of Q14’s ripped fold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ill in 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he centre of Q8, and counted the stubs as missing bifol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.e. the nine-rosette page wa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tera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two places at once, so was double-coun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#9: origin of Q6/Q7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6 / Q7 had no quir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wner concluded that these should be quirated in the original numbering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quire order: Q1-Q15,Q17,Q19,Q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#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people worked on the Voy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least two during C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sought to give it form and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ooked for clues in the margin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…even if they didn’t always get it righ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ordered &amp; restitch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ympath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were bibliophiles…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ibraria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#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brid numbering scheme is very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ot in medieval tra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oot in contemporary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n between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umanists, but monk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peculative 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nastic Library Hypothe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ynich Manuscript was given to Rudolf II by a representative or inheritor of an abbey, monastery or fria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“The Franciscan Library Hypothe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Voynich Manuscript was given to Rudolf II by a representative or inheritor of a Franciscan abbey, monastery or friar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oger Bacon was a Franciscan mon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A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ck Pelling –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ckpelling@nickpelling.c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dicological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material (vell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 + drawings + thin paint + heavy 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s + emendations + lacu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ia + annotation + colo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nsfers + stains +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re numbering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bi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numbering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fi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io numbering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cross-referenc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nich Folio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ps imply pages removed after fol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by Baresch to send to Kir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iation uses 16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ntury numb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ities with Dee’s / Kelley’s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ly added in / not long before Pr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aint added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 microscope, f42r’s “42” is overpa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ccording to Rene Zandbergen in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ynich Quir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 get quires bound in corre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early in life of manu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number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by John Matthews Manly in 19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 numbering system, unusual for 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longhand Roman ord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9, 29, 39, 4t9, 5t9, 6t9, 7m9, 8u9, 9n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15 transitional hybrid Arabic/R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io &amp; quire numbers inconsiste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15 quire numbers vs C16 foli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9 (‘Quire 9’) was restitched between quiration and foliation (John Gro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for nine-rosette Q14 (Glen Clas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ation and foliation were not connec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re order vs. original quire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struct central two bifolios of Q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ire number is on the wrong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struct original page order of Q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ire number is on the wrong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15 and Q19 are out of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quire numbers are out of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hands not Voynichese / michito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numberer wa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original auth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re number paradox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quire hands (Pelling 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le quire hand numbering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ire sequence gaps (Q16 &amp; Q18 abs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same as original bifolio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same as final (foliated)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scratch marginalia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ed to the quir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ly accepted ‘explanation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Q16 &amp; Q18 were probably single bifolios removed by Baresch to send to Kirch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: doesn’t explain different quire hands, nor why quire hand #1 didn’t number all the quires in one go. Unlike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gger problem: only explanation on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9:34:04Z</dcterms:created>
  <dc:creator>nick</dc:creator>
  <dc:description/>
  <dc:language>en-US</dc:language>
  <cp:lastModifiedBy>nick</cp:lastModifiedBy>
  <dcterms:modified xsi:type="dcterms:W3CDTF">2012-04-21T16:16:39Z</dcterms:modified>
  <cp:revision>21</cp:revision>
  <dc:subject/>
  <dc:title>Between Vellum and Prague</dc:title>
</cp:coreProperties>
</file>